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5F0-F4E2-42A1-9251-3A69956A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4FC-D574-4906-B6E3-EC859928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8B1D0-B549-4993-BFBA-E4C383C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AE37-3E64-49F3-8FFB-A770617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E940A-06FC-4CC0-BFA9-02111684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508CC-BFB3-4513-A472-62423FD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F014-FE81-46ED-AC35-1551A34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79A6-0419-4284-947F-1C5247D2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351C-0BBD-4618-A2C7-20E45F2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CB594-066E-4857-BE75-D318065B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FD08-D497-4A79-A37B-D894B841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6C735-BD07-4C5E-8E17-77446F22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3DB-B8EF-47A7-A1F1-9868C7A1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13737-4494-493E-8E88-8ABD441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93A35-DE22-4005-B646-9436D6D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38073-058D-4917-BFE9-D538F8F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49161-AC63-4AD4-9CD3-22972FD6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1620-42A0-4647-81E3-EAFBDC4A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6CC46-31DB-4B03-9867-F5EF057E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0EC77-76DC-4E5A-8246-0C06F1E8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75071-3D6D-4F55-820F-D028A0DD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B358C-3386-475B-BB35-132A0124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25997-28FA-4146-9F89-B9C2690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B32-F32D-4B41-B9FC-029EF97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567E-3839-4465-8084-B2DE81ED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346E-A785-445B-94FF-179EEAD2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39FEA-2817-4F77-8921-38B5D69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8F1F1-3D12-4924-9BF4-EEB4073F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21365-F779-45E9-BA7D-9037D094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4FAFC-5FEF-4344-AC8E-B8B5233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23D9-1750-4ADA-84BB-77AF5A0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1690B-2A2C-423F-9015-0FB63F3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E0ECF-EB2D-4CCB-BF4C-2ED8B61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BD1D-E5D3-41C2-8E16-17C65BB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D134-77F4-4486-AFB8-D7B48EE9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588DB-990A-4B3A-9B9F-F6E38300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24A0-4C86-4F3E-9EF5-DC3FE65D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4340-498B-41E9-9C79-D008AC4D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2483-CF70-4C9A-B080-910956C9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0962E-259F-4369-BFA8-9B1DEBE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D5B02-C63A-417E-B5E5-8C672C0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BC498-4C57-46A5-A907-FF06874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2384E-6095-41BD-A2F9-8ADECCB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ED06B-59A8-4E2A-A512-144B71F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13534-0BE0-49B1-95B2-7E87965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B52-110C-4F4B-AAE6-CD65E976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B93C1-90ED-467C-ADB9-ECB0171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F35E7-8353-465F-A119-257CF20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3AF92-CF13-4C7E-B5D1-4770F37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1487C-EC41-4E40-A632-4004E3AC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3836-080B-47B2-B8A1-BCBBC6CB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14894-2346-4039-8D15-FDC6D352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21450-91FB-452B-A818-2110932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FDBFA-B328-4EA8-8628-6D5B3111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94863-0160-4FB8-B90D-012EAAF2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5E38B-5ED9-4F56-90C1-DABAEC09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1C6-F0E3-43EA-8267-1915D510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68892-B4CE-43E3-821F-4CA6792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89A02-E821-4A91-960D-755DA7F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72403-14D4-47FF-8676-FDFF01B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4BEB6-68BE-4889-8347-267B625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0584C-AFEC-4235-B00D-AEDA44C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E3097-021B-46DC-BCEA-29AA557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0E2B3-A92C-4337-B925-43D51D8C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6A480-E8C1-4BC5-B981-F6E2A640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271B9-53D4-4A54-9799-C613D4C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3957D-624F-45CC-AF51-42876424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70B7-12FE-4040-B800-2E1B3B5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43A04-5F6C-4BBB-A1D4-BD4DE2E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31945-B071-41BB-B0C0-426058BE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40281-0F8E-4060-BF77-3227E8B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F82C4-7FBD-434B-9E91-5E824DC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F8995-E90F-499C-8651-FB7F154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2080B-BEBB-48AA-A2EF-AF53DC5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40F49-1286-4826-B83A-1225F80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4293C-2420-44B8-BF7A-EAB0C109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D0F4A-19F6-404E-92CC-A864A259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A177A-CEF9-4E1D-B916-7344ACB3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FF52-BD9C-4F66-BFBB-D840BF55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9B61F-3C4C-440C-8409-11652236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D6789-706B-48A1-9591-313504D1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23276-5499-494A-8BA0-60B44DED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AD85B-4550-46F1-8B18-846657CC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9DA0A-BF71-49FB-AC5F-71708AD5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ACA31-3568-4B59-AE7B-DE1675D1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B86FE-C837-4EBE-A0F1-78D4D999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2CFAD-FAD7-4853-B7AF-253DBF9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74982-7710-4949-A514-8524DF5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127B0-573D-4C5B-81CF-1629BF3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A3E-6897-44B8-A936-0354952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C889D-3993-433A-8223-9BAA1B66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5B4F1-5F56-42F1-8F1D-A6C87D88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36DBA-7FFD-4B45-9D76-2B4EFEE7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E9ABA-51AA-46BA-96F8-94C5DCA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064AC-068E-4F3F-BAE3-2888E490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B4A05-D79D-451F-A1E4-B74A589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50562-732E-4752-83ED-D65FFB84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7DDB8-B005-49E3-8C21-C85B1DA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B38E0-4587-4014-BCD6-45DE595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72F1A-36EC-4594-9DBA-2EE1286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207-0AAE-40AC-879B-4671C6C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EF9FF-C14F-4DBD-933D-EA6C881D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4567D-4798-465F-9FFB-032E847D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4EB9B-C719-4818-B340-95994E63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859DD-963C-4A15-A271-B180BF8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66A2F-38DC-4251-A9EE-0789166E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BC2CA-7D6E-4772-9556-78EECAE2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938DF-3FBD-4E41-884C-0CA1106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B0E1D-8E68-4250-9185-772CAF1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4F388-75D5-4EF0-9BF9-A71A23BB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46072-EBF1-466A-B6EF-B5967B2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E74-F12C-4337-BE94-8099D4F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58F-B90B-4B79-B3F4-C7E43D0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7F80A-FFBF-4EBA-99D9-B41EB6B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CCD4B-8F74-47B3-A117-CF460B8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EB147-262C-469D-BCE2-4952BEC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909A4-EC9C-47F0-84C6-B9A31916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92925-9A57-4A00-87FF-2F3BAB6D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4E77C-56DA-4210-AFCA-73F20C96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4A9B7-AF92-4E06-9884-B8ED0B94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E57DA-20D5-4587-B83B-27529E4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69AF0-ACFE-4913-B4F9-0F49A29D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0FF53-47FD-4707-B43C-168E53F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E5E9-A7AE-4275-9621-7BF4C0F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7635F-7BE7-43ED-B845-0171896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ECB88-C0A9-4221-A4B0-4F6CC642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EBBA0-4124-4167-A2B4-DB2DBD3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6B71C-0E22-450F-A602-9AC0332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F22EB-7B5F-4784-956E-8BE243C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81F37-4DEA-4757-9BA8-667BCE81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EE477-324B-41AE-AB0B-729B109B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7E6-B9E8-47D1-9AED-2F7FB76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B9E-E5AC-4A09-8767-43432B1F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F6D-CBAF-415B-9D4F-DCF1E9C3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F421-C827-4761-A69F-ED44940C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2363-116D-413D-A1E7-21E390E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230D-3CB8-4E1F-9A96-E3D378C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0249-E107-418B-AF0A-21F0B06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F8B3-F03C-4CC7-B9E7-7E1570AA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CB0-6CA4-4219-81CB-473CEE54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B6DF-9569-4217-90B0-FF244CB4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ED96-AF79-4835-B66C-27E4FE7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47AE-F201-4B8C-86B3-15881890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F4B0-E66C-4634-ADC6-2782E17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0A45-E10F-436B-8A53-77F9E20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BCFF-20DE-41FC-AB44-7D351452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949B-91E9-4EE2-80F7-E7BD87B2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7FF3-D064-4E15-A832-6C8ABB81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FD0C-55EE-4F7A-ABF3-D36AD08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7013-B666-460D-B5D1-A35ADBE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89B-C213-4585-BF4A-9B882C6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2921-20A3-46CF-B755-F0401BC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A4AB-E74D-42BC-8032-4931DA81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196E-25A5-4F3B-87FD-8A5F2841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D55A-613D-4389-84A6-CA255BC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ABF5-279B-458A-912A-3767775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2FA6-2547-457E-A6FC-416960F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F8B1-1512-498A-9CD3-AD6CC55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F64C0-7F63-49E2-933E-BEB81B52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A434-A2EB-41A3-80C0-FAFCDEA3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E2A7-DBFF-4CA8-A5F4-3FE2D64A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403-CD4B-47C1-A428-F4102AD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2C4C-7187-40BA-B006-278FB71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E4DB-9DCB-4022-8853-837BB2D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B578-4AAC-4DAD-9341-5DAE98F8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2240-5E7B-43CE-B39B-3DE5C00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49563-ED35-4837-9DD2-EDB9027F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D8AE-D7EE-4AFA-B719-8BD3A7D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B7DF-1DFD-4F6B-B0F6-0644DE0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53DC-1DE4-4985-85F0-1E5BC8D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F822-0B1F-4003-A75B-9CDDD13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DA6C-718B-43CE-A462-974BE462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CF2-2787-4ADB-B799-64698F5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AA7E-2D5F-47A7-A5BB-78CCB0DE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683A-671E-4D97-957E-F42B7A1F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9585-2D92-4EB8-8D5A-60B1587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CB96-FCCC-4384-9E59-5E102794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AAD3-C358-40D6-B646-81F92E6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51C9-EB6A-415F-9B61-BA33D50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F0E99-6333-41E3-9BBD-AD0D514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8391-172C-432C-B9C3-CA25B0A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1AA3-3EB5-4B79-A018-E1EC74D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4584-EEA4-4C8E-AC19-AF31CD3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3FA-8E53-447C-80FD-47247BB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033A-7C06-45B7-9E24-9E3CFA8A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B6B6D-4332-44EB-8D94-DE71A0DD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9A05-D9BF-4BA4-BC1D-818B8A99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D330-6CD6-4AFB-81E7-8E6FB177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D5B8-541B-4277-8389-11F8303C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A9BD5-55FC-4AA0-AD07-2F73449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A29D-EB47-47BF-B900-E043D61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B78F-2133-4A30-A607-81CB1B3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A89F-05CB-4C0D-ACF2-70A766EE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F5DF-1115-4144-AD72-6B6ECB3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9FC-7F2E-42F8-AE6B-4191FAEE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913B-E132-407C-907C-6A1E643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3532-F671-4A2B-AECB-D5572AA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1681-76C0-4344-A25A-8E52EF7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B10A-CF68-4A08-BB66-44C47EB2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92C3-0F5B-4AE0-947F-A3CEA9F0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524A-7522-495E-8B0B-7CEC6321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046A-CD2B-4217-8D23-D5F64864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1C46-14A1-4D35-B5A6-5FDF8EC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7DED4-951C-4C37-853A-85D734B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3DF2-FCA9-49A0-9D3F-9341F9E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EBA-D971-43D1-A835-FF08BC8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8606-D34F-4F5E-92A5-259C7E5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7D52-411B-415B-88FB-2DFEA2E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C40A0-07EA-492F-A61A-656308F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AE8F-CC0C-4C23-99E2-F853531E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5E1EF-D8EA-4FC3-89FE-521E90D4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D21C9-5BA7-4932-8D02-2A058718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201C-A928-4C49-B5FB-1DC2FD49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C1E8F-D54A-4C7C-A139-CD630EBA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D55E7-6FA2-4B28-9182-77F810D4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301DA-33C5-4247-B22C-4844F52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6B5A8-0D8F-431A-A75E-8915DF74A6A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DFF37-5266-400D-92D2-03684A46C8A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F77FD-6BC7-4219-915D-A9C1DD58313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3E736-12D5-450C-A5FB-24631B7A059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4A8CE-BF41-488A-A7B1-7AC34166D85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DC746-2AC0-4C61-B4A3-F39E8F00398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DBB10-98A4-4798-AED2-81D8DC6216B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99B14-30FF-4362-B2E2-E26846EE8D8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5D521-20BC-4BB6-8EF9-CAFCE2572A7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61A8D-B4E4-4741-A3CB-389D199E3B9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1293C-32DD-4660-B871-AE0DA9EECBF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7C927-A0F9-4FF6-A8F4-B25FB47B092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16453-BD14-4304-A137-E2052AEAAE1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539E6-A667-4C0B-83C1-962DC74B179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00B3E-23ED-41CF-938A-930BBCDD37D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3152F-7804-4191-B568-A90441B7581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02840-444A-4FD9-9E65-C6A24E91930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C6420-6D3A-4F9B-8AE5-CBECA9BF553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1213920"/>
            <a:ext cx="53593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Trebuchet MS"/>
              </a:rPr>
              <a:t>ОРТОТИКА И ПРОТЕТИК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610704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птозе су помагала која служе за замену изгубљене функције одређеног сегмента локомоторног апарата, спречавају настанак контрактура и деформације зглоба врше корекцију деформација кичменог стуб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42920" y="227628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е коле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а за кичмени стуб: 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Millwauke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 мидер,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TLSO 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иде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стала помагала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педска обућ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за крет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у оквиру АДЖ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и техничке олакшице у кући и на радном мест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 и проте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99640" y="2336400"/>
            <a:ext cx="7704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имена протетских и ортотских средстава, представља супституцију изгубљених делова тела(протезе) или изгубљених функција (ортоз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отезе се користе након ампутације горњих и доњих екстремитет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рехабилитац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280" y="2336400"/>
            <a:ext cx="75610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rebuchet MS"/>
              </a:rPr>
              <a:t>Услов је да пацијент х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ротетич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хабилитац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ј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ложен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нтердисциплинарн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датак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циље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аксималн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огућ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физиолош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струкциј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ктив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етањ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ребала би да се спроведе до месец дана од ампутације.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00000" y="75204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е протетичке рехабилит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r>
              <a:rPr b="0" lang="hr-HR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ОПЕРАТИВНОЈ ФАЗИ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ит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н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мпутациј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атећ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ехабилитациј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ак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цијен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изиотерапеут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рж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дициј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еч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ракту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ОСТОПЕРАТИВН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26560" y="2336760"/>
            <a:ext cx="799308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едставља период након ампутације екстремите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Циљеви у постоперативн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мањење отока патрљ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Превенцију инфекциј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пречавање развоја контрактур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нтомског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о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ј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сихоло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р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33520" y="2336400"/>
            <a:ext cx="7999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дставља пери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вршет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ме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протетчк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/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дав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магало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из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езависност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ДЖ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њ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11280" y="2205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вној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лоз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к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ек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епениц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стај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из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родн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кружењ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ут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вентуал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ортск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стављ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аљ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ндивидуалн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ск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ом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АНДАЖИРАЊЕ ПАТРЉ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26920" y="2336400"/>
            <a:ext cx="8066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патрљка је поступак којим обликујемо патрљак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оводи се еластичном чарапом или еластичним завојем, увек се оставља отвор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 врху патрљка да уочимо евентуалну промену боје коже.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јјача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је компресија на врху патрљк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мањ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д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рж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ониз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трофич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мускулатур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викав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алн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тиса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бликов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18Z</dcterms:modified>
  <cp:revision>33</cp:revision>
  <dc:subject/>
  <dc:title>Balneoterapija</dc:title>
</cp:coreProperties>
</file>